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760-077C-48C7-9349-6D150A42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C331-2B23-4A29-83AA-D8439430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084-AFD1-43FB-A14F-C591526B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373-C53A-4F39-BB4D-506870F5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93DF-66ED-4E81-9CC2-8F1CFF74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4C3A-F37E-4BD4-904B-1138414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DE25-2B95-432F-860C-DBC292C7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C883-3DDD-4FB2-AAC7-B786AF9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A4BC-2D7D-4E3C-A3C8-CD888596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EF8D-C65F-4BEC-AB8B-C44F0E49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2AC2-40AB-4E3B-B7AB-0FC705EE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D8F-FDA0-4CEF-A4C6-7C41AB5B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7E5B-0908-43BF-86D5-9CE76C4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0CE5-7512-4E9C-A4EC-E7075E0B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00AA-514B-4182-BD70-32073332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6C78-1689-471F-A142-45C69619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2F89-1BFD-4763-99EA-3D854E09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A821-9D56-4EF9-A375-96C508FD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DC7-F463-4DD8-8702-EB5F2C7D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8C9-467D-44A6-8F96-863D8DE8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30D-D54F-4474-8811-6B95B1C7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7E4-83F0-49ED-9F1A-5BEDCA0A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3202-32AD-4704-858F-A66A0225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85B-9911-4527-B303-3D2ED2E7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E094-52D2-44F8-AE41-3F73E55D12A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920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4124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9040" y="2104920"/>
            <a:ext cx="34632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F14F-C05D-4CD0-8E45-E0AC77C8EC61}" type="slidenum">
              <a:rPr b="0" lang="el-GR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280" y="191628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800" spc="-1" strike="noStrike">
                <a:solidFill>
                  <a:srgbClr val="000000"/>
                </a:solidFill>
                <a:latin typeface="Arial"/>
              </a:rPr>
              <a:t>ΜΑΘΗΤΗΣ ΕΚΠΑΙΔΕΥΤΙΚΟΣ ΟΜΑΔΑ ΤΑΞΗ</a:t>
            </a:r>
            <a:br>
              <a:rPr sz="4800"/>
            </a:br>
            <a:r>
              <a:rPr b="0" lang="el-GR" sz="4800" spc="-1" strike="noStrike">
                <a:solidFill>
                  <a:srgbClr val="000000"/>
                </a:solidFill>
                <a:latin typeface="Arial"/>
              </a:rPr>
              <a:t>ΣΥΜΒΟΥΛΕΥΤΙΚΗ ΣΤΗΡΙΞΗ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76360" y="4508280"/>
            <a:ext cx="7236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ΕΡΑ ΠΑΥΛΟΥ-ΨΥΧΟΠΑΙΔΑΓΩΓ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ΛΟΣ ΔΕΠ ΑΣΠΑΙΤ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ran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ise Dolto</a:t>
            </a:r>
            <a:r>
              <a:rPr b="0" lang="el-GR" sz="4200" spc="-1" strike="noStrike">
                <a:solidFill>
                  <a:srgbClr val="000000"/>
                </a:solidFill>
                <a:latin typeface="Arial"/>
              </a:rPr>
              <a:t> (1908-1988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συμπτώματα ανικανότητας των παιδιών στο σχολείο απηχούν αντιδραστικές διαδικασίες στο άγχος των γονέω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ικανότητα ενός ή δύο γονέων να ωριμάσουν λιβιδινικά και να αναλάβουν την θέση του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οβλήματα όταν  το νόημα των ενηλίκων βρίσκεται στα παιδιά και όχι στο ζευγάρ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ουσία-απουσία γονέων σε κρίσιμες στιγμές, θάνατοι, ατυχήματα, καταθλίψ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κατάσταση  μητέρας στο ρόλο του πατέ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s Mauco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(1899-1998) Γάλλος </a:t>
            </a:r>
            <a:r>
              <a:rPr b="0" lang="el-GR" sz="2000" spc="-1" strike="noStrike">
                <a:solidFill>
                  <a:srgbClr val="cc00cc"/>
                </a:solidFill>
                <a:latin typeface="Arial"/>
              </a:rPr>
              <a:t>Γάλλος ψυχαναλυτής και  εκπαιδευτικός,  εισηγητής της ψυχαναλυτικής επιμόρφωσης εκπαιδευτικών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«Ο δάσκαλος δρα περισσότερο μέσω αυτού που είναι παρά μέσω αυτού που λέε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συνείδητη επικοινωνία των ευαισθησιών εκπαιδευτικού-μαθητή που ανασύρει βιώματα εκπαιδευτικού και μαθητή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Το παιδί με τις ορμές και την επιθετικότητα ανασύρει πρωταρχικά άγχη και αγωνίες του εκπαιδευτικο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Ο μαθητής ανακουφίζεται στο σχολείο από τις οιδιπόδειες εντάσεις.Τις προβάλλει στο πρόσωπο του εκπαιδευτικο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Ο εκπαιδευτικός χρειάζεται να το αντέξει, να μεταβολίσε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000000"/>
                </a:solidFill>
                <a:latin typeface="Arial"/>
              </a:rPr>
              <a:t>Ι.Περιγραφή περίπτωση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0106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μαθήτρια γυμνασίου αλλοδαπή φροντιστήριο  «δεν καταλάβαινε τίποτα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Ο πατέρας, τραχύς άνθρωπος εργάτης,μητέρα απλησίαστη, γονείς απόντε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Ζητά από την καθηγήτριά της να της κάνει «ιδιαίτερο» για να πετύχει σε εξετάσεις όπου ήταν η μόνη που είχε αποτύχε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 εκπαιδευτικός ξεκινά με αμφιθυμία, νοιώθει  δυσφορία διότι η μαθήτρια είναι μπερδεμένη, δεν καταλαβαίνει τίποτα,θα αποτύχει κατά τη γνώμη τη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 συζήτηση στην ομάδα  περιστρέφεται γύρω από τη βεβαιότητα της αποτυχίας που έχει η εκπαιδευτικός. Λέει ότι έχει εμπλακεί πολύ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Νοιώθει ότι την πνίγει η εξάρτηση της μαθήτριας από την ίδι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υζητείται  το ζήτημα ότι το «δεν καταλαβαίνω τίποτα» σχετίζεται με την οικογένειά  που  έχει μεταναστεύσει και οι γονείς δεν ασχολούνται μαζί τη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Με όλα όσα λέγονται τις επόμενες φορές η εκπαιδευτικός έχει αλλάξει θέσ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 κοπέλα αρχίζει να προχωρά στο μάθημα. Τελικά πετυχαίνει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 αλλαγή θέσεων μετατοπίζει την τα αιτήματα που γίνονται έργ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1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000000"/>
                </a:solidFill>
                <a:latin typeface="Arial"/>
              </a:rPr>
              <a:t>ΙΙ.Περιγραφή περίπτωση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 Ελένη έχει πατέρα μαθηματικ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ονείς χωρισμένοι,ο πατέρας τους έχει εγκαταλείψει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 μητέρα θεωρεί την Ελένη  πολύ έξυπνη σαν τον πατέρα.Η Ελένη ασυνείδητα «επιλέγει» ένα είδος μπλοκαρίσματος στα μαθηματικά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audine Blanchard Laville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λέει ότι έπρεπε να είναι χαρισματική και αντικείμενο αγάπης από τη μητέρα όπως ο πατέρας και ταυτόχρονα καταδιωκτική εφόσον ο πατέρας τους είχε εγκαταλείψε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Μέσω της πίεσης  γίνεται καταδιωκτική και η μητέρ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υτό προβάλλεται σε μία ηλικιωμένη μαθηματικό « γεροντοκόρη»   σαδιστική συμπεριφορά που σήκωνε του αδύναμους επί ώρα στον πίνακ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τον ύπνο της έβλεπε ότι την καθηγήτρια  την κυνηγούσε να τη σκοτώσε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3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νώ υπεραγαπούσε  έναν καθηγητή μαθηματικών στο λύκειο που θύμιζε τον πατέρα  και θα μάθαινε μαζί του μαθηματικά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98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98" fill="hold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98" fill="hold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898" fill="hold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98" fill="hold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800" spc="-1" strike="noStrike">
                <a:solidFill>
                  <a:srgbClr val="000000"/>
                </a:solidFill>
                <a:latin typeface="Arial"/>
              </a:rPr>
              <a:t>Η λειτουργία του ψυχολόγου-σύμβουλο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Ορθογώνιο 1"/>
          <p:cNvSpPr/>
          <p:nvPr/>
        </p:nvSpPr>
        <p:spPr>
          <a:xfrm>
            <a:off x="611280" y="1916280"/>
            <a:ext cx="7705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6666"/>
                </a:solidFill>
                <a:latin typeface="Arial"/>
              </a:rPr>
              <a:t>Προσεκτική ενεργητική ενσυναισθητική ακρόαση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6666"/>
                </a:solidFill>
                <a:latin typeface="Arial"/>
              </a:rPr>
              <a:t>Κάνει παράφραση σε σημεία που του φαίνονται σημαντικά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6666"/>
                </a:solidFill>
                <a:latin typeface="Arial"/>
              </a:rPr>
              <a:t>Διατυπώνει ερωτήσεις πάνω στην οικογενειακή κατάσταση του μαθητή, το περιβάλλον, το χώρο στον οποίο εκδηλώθηκε το πρόβλημα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6666"/>
                </a:solidFill>
                <a:latin typeface="Arial"/>
              </a:rPr>
              <a:t>Θέτει ερωτήματα στον εκπαιδευτικό για τα δικά του συναισθήματα και τα δικά του βιώματα στην περίσταση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6666"/>
                </a:solidFill>
                <a:latin typeface="Arial"/>
              </a:rPr>
              <a:t>Παρατηρεί τις μεταβιβάσεις που δημιουργούνται εκατέρωθεν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36666"/>
                </a:solidFill>
                <a:latin typeface="Arial"/>
              </a:rPr>
              <a:t>Αναπλαισιώνει τα λεγόμενα βλέποντας το πλαίσιο συνολικά και αποκρυπτογραφώντας τις παραμέτρους που δεν είναι άμεσα εμφανείς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000000"/>
                </a:solidFill>
                <a:latin typeface="Arial"/>
              </a:rPr>
              <a:t>ΣΥΜΠΕΡΑΣΜΑΤΑ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α προβλήματα συμπεριφοράς και η άρνηση του μαθητή συνδέονται με τα οικογενειακά ελλείμμα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 εκπαιδευτικός με τα βιώματά του συντονίζεται με τα προβλήματα του μαθητή. Η δυναμική της ομάδας συνεισφέρει σε αυτή την κατεύθυν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συμπεριφορές αλλάζουν όταν ο εκπαιδευτικός πάρει απόσταση, δει το περιβάλλον και κάνει παρεμβάσει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θεσμοί οφείλουν να επικεντρώσουν στην ψυχοπαιδαγωγική βιωματική επιμόρφωση εκπαιδευτικών και γονέ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κέντρωση του σχολικού συστήματος σε λογικές οριοθέτησης με κυρώσεις και όχι τιμωρίες, με διαμεσολάβηση, εκπαίδευση στον εαυτό με αναστοχασμ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000000"/>
                </a:solidFill>
                <a:latin typeface="Arial"/>
              </a:rPr>
              <a:t>Βιβλιογραφία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3280" y="134136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3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BLANCHARD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AVILLE Claudine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2001.</a:t>
            </a: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Οι εκπαιδευτικοί ανάμεσα στην ευχαρίστηση και την οδύνη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υπό έκδοση, εκδ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tenbe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IFALI Mireille, IMBERT Francis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O Freud</a:t>
            </a: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 και η παιδαγωγική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 εκδ. Τυπωθήτω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utenberg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ΚΟΡΝΤΙΕ ΑΝΝΥ, </a:t>
            </a: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Κουμπούρες δεν υπάρχουν, Ψυχανάλυση και σχολική αποτυχία,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θήνα, εκδ. Ολκός ,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ΚΑΡΑΓΙΑΝΝΟΠΟΥΛΟΥ ΕΥΑΓΓΕΛΙΑ,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Για τη μάθηση, εκδ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tenbe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ILLOUX Jean Claude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Παιδαγωγική και ψυχανάλυση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tenberg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 20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O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 Ζ. 1993 , </a:t>
            </a:r>
            <a:r>
              <a:rPr b="1" i="1" lang="el-GR" sz="1600" spc="-1" strike="noStrike">
                <a:solidFill>
                  <a:srgbClr val="000000"/>
                </a:solidFill>
                <a:latin typeface="Arial"/>
              </a:rPr>
              <a:t>Ψυχανάλυση και εκπαίδευση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 Αθήνα, εκδ. Καστανιώτη,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-53136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ANCOISE DOLTO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,1993, Μεγαλώστε σωστά το παιδί σας (Τρίτομο), Από τη γέννηση μέχρι την εφηβεία,εκδ.Γιαλλελή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1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136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ΣΧολική επιθετικότητα"/>
          <p:cNvPicPr/>
          <p:nvPr/>
        </p:nvPicPr>
        <p:blipFill>
          <a:blip r:embed="rId1"/>
          <a:stretch/>
        </p:blipFill>
        <p:spPr>
          <a:xfrm>
            <a:off x="-958680" y="-328680"/>
            <a:ext cx="11063160" cy="751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παιδιά-γονείς"/>
          <p:cNvPicPr/>
          <p:nvPr/>
        </p:nvPicPr>
        <p:blipFill>
          <a:blip r:embed="rId1"/>
          <a:stretch/>
        </p:blipFill>
        <p:spPr>
          <a:xfrm>
            <a:off x="-9613800" y="-316080"/>
            <a:ext cx="24483960" cy="755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6666"/>
                </a:solidFill>
                <a:latin typeface="Arial"/>
              </a:rPr>
              <a:t>Προβλήματα του σημερινού σχολεί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ιθετικότη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bullying),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έλλειψη σεβασμού στα όρια,εξαρτήσει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ό κινητά,διαδίκτυ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όσυρση από το μάθημα, κατάθλιψη, απουσίες, αναστολή στη μάθη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Ζητήματα δυσλεξίας, δυσαριθμησίας, καθυστέρηση στο λόγ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οβλήματα στην επικοινωνία γονέων-δασκάλων-καθηγητών-μαθητ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ΤΙ ΤΑ ΠΡΟΒΛΗΜΑΤΑ ΕΜΦΑΝΙΖΟΝΤΑΙ ΣΤΗΝ ΤΑΞ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ώτος χώρος κοινωνικοποίησης μετά την οικογένεια όπου εκφράζονται προβλήματα που λανθάνουν στο επίπεδο των σχέσε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 εκπαιδευτικός κεντρικό πρόσωπο μεταβίβασης δίνει τη δυνατότητα να αναδυθεί το σύμπτωμα που </a:t>
            </a:r>
            <a:r>
              <a:rPr b="0" lang="el-GR" sz="2600" spc="-1" strike="noStrike" u="sng">
                <a:solidFill>
                  <a:srgbClr val="000000"/>
                </a:solidFill>
                <a:uFillTx/>
                <a:latin typeface="Arial"/>
              </a:rPr>
              <a:t>προϋπάρχε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Η ομάδα τάξη και η ομάδα του σχολείου, παραπέμπει στις «εσωτερικές ομάδες» του μαθητή (René Kaë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Didier Anzieu)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mund Freu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γωγή και πολιτισμ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>
                <a:solidFill>
                  <a:srgbClr val="000000"/>
                </a:solidFill>
                <a:latin typeface="Arial"/>
              </a:rPr>
              <a:t>Νέα σειρά παραδόσεων εισαγωγής στην ψυχανάλυση, 193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6666"/>
                </a:solidFill>
                <a:latin typeface="Arial"/>
              </a:rPr>
              <a:t>«Το παιδί πρέπει να μάθει να εξουσιάζει τις ορμές του. Θα πρέπει να βρούμε την καλύτερη λύση ώστε η </a:t>
            </a:r>
            <a:r>
              <a:rPr b="1" i="1" lang="el-GR" sz="2800" spc="-1" strike="noStrike">
                <a:solidFill>
                  <a:srgbClr val="ff9900"/>
                </a:solidFill>
                <a:latin typeface="Arial"/>
              </a:rPr>
              <a:t>αγωγή</a:t>
            </a:r>
            <a:r>
              <a:rPr b="0" lang="el-GR" sz="2800" spc="-1" strike="noStrike">
                <a:solidFill>
                  <a:srgbClr val="336666"/>
                </a:solidFill>
                <a:latin typeface="Arial"/>
              </a:rPr>
              <a:t> να βρει το δρόμο ανάμεσα Σκύλλα της απόλυτης ελευθερίας και τη Χάρυβδη της ματαίωσης…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8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82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l Laurent Ass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3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336666"/>
                </a:solidFill>
                <a:latin typeface="Arial"/>
              </a:rPr>
              <a:t>« Η </a:t>
            </a:r>
            <a:r>
              <a:rPr b="1" lang="el-GR" sz="2800" spc="-1" strike="noStrike">
                <a:solidFill>
                  <a:srgbClr val="ff9900"/>
                </a:solidFill>
                <a:latin typeface="Arial"/>
              </a:rPr>
              <a:t>αγωγή</a:t>
            </a:r>
            <a:r>
              <a:rPr b="0" lang="el-GR" sz="2800" spc="-1" strike="noStrike">
                <a:solidFill>
                  <a:srgbClr val="336666"/>
                </a:solidFill>
                <a:latin typeface="Arial"/>
              </a:rPr>
              <a:t> κατέχει στρατηγική θέση: λειτουργεί στον πυρήνα  της αντίφασης ορμής- πολιτισμού. Γιατί αναλαμβάνει ένα σημαντικό μέρος  της παραίτησης από τις ορμέ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6666"/>
                </a:solidFill>
                <a:latin typeface="Arial"/>
              </a:rPr>
              <a:t>(εξ ου η δυσφορία αλλά και η ελευθερί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3710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τελετουργικό της σχολικής οργάνωσης και η οριοθέτηση-ρύθμιση των ορμών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urstena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03280" y="206064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666"/>
                </a:solidFill>
                <a:latin typeface="Arial"/>
              </a:rPr>
              <a:t>Ηλικιακή τάξη: συνάθροιση μπροστά σε ένα δάσκαλο με βάση ηλικία, ορμές, ενδιαφέροντα, έξοδος από την ατομικότητα της οικογένεια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666"/>
                </a:solidFill>
                <a:latin typeface="Arial"/>
              </a:rPr>
              <a:t>Επαναλαμβανόμενες οριοθετημένες συνήθειες: συνάθροιση, διάλειμμα, εκδρομές, περίπατοι, γιορτές, εκδρομές,συναναστροφή με συνομιλήκου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6666"/>
                </a:solidFill>
                <a:latin typeface="Arial"/>
              </a:rPr>
              <a:t>Τελετουργικοποιημένη διαδικασία μάθησης: χωρισμός αντικειμένων,ασκήσεις,διαγωνίσματα, εργαστήρια, ανταμοιβή και κύρωση, αξιολόγησ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 ΕΚΠΑΙΔΕΥΤΙΚΟΣ ΚΑΙ ΤΟ «ΠΑΙΔ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1640" y="2997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egfried Bernfel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αυστριακός αναλυτής-παιδαγωγό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0" lang="el-GR" sz="2400" spc="-1" strike="noStrike">
                <a:solidFill>
                  <a:srgbClr val="336666"/>
                </a:solidFill>
                <a:latin typeface="Arial"/>
              </a:rPr>
              <a:t>ο εκπαιδευτικός βρίσκεται απέναντι σε δυο παιδιά. Αυτό που πρέπει να διαπαιδαγωγήσει και το απωθημένο παιδί μέσα του.Φέρεται στο πρώτο όπως βίωσε το δεύτερο».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DSCN0525"/>
          <p:cNvPicPr/>
          <p:nvPr/>
        </p:nvPicPr>
        <p:blipFill>
          <a:blip r:embed="rId1"/>
          <a:stretch/>
        </p:blipFill>
        <p:spPr>
          <a:xfrm>
            <a:off x="395280" y="1197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CN0529"/>
          <p:cNvPicPr/>
          <p:nvPr/>
        </p:nvPicPr>
        <p:blipFill>
          <a:blip r:embed="rId2"/>
          <a:stretch/>
        </p:blipFill>
        <p:spPr>
          <a:xfrm>
            <a:off x="5796000" y="177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DSCN0533"/>
          <p:cNvPicPr/>
          <p:nvPr/>
        </p:nvPicPr>
        <p:blipFill>
          <a:blip r:embed="rId3"/>
          <a:stretch/>
        </p:blipFill>
        <p:spPr>
          <a:xfrm>
            <a:off x="3132000" y="14842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5T07:13:23Z</dcterms:created>
  <dc:creator>COMPUTER</dc:creator>
  <dc:description/>
  <dc:language>en-US</dc:language>
  <cp:lastModifiedBy>VERA</cp:lastModifiedBy>
  <dcterms:modified xsi:type="dcterms:W3CDTF">2022-11-30T13:34:06Z</dcterms:modified>
  <cp:revision>44</cp:revision>
  <dc:subject/>
  <dc:title>ΠΑΙΔΑΓΩΓΙΚΗ ΚΑΙ ΨΥΧΑΝΑΛΥΣΗ</dc:title>
</cp:coreProperties>
</file>